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7F0-CFF2-4C11-A455-FFE3CA10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9BB-666B-49C2-9D2E-C00CF88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CD3-4A6C-41AA-B423-B8F6E61F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8BC-16F9-4D04-A08B-BD4BE03F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1CD4-F7F2-4FDA-B226-4AA1F2AD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FC8-3007-4DFA-9214-F9756E2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E838-B237-40C2-ACD0-A280399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BBCB-2755-4163-A1BE-F9735B46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3818-D070-4A8F-AF00-6EE1518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F99D-E48F-48C5-9DF2-1A091A04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500B-A706-442D-877E-301CA33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B14-10E6-4E84-A36A-352DAD8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003-1834-4EC4-928C-37F0455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B4F-8481-4EFF-82CF-1751E22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489-2643-4D40-844D-DFE8022C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F5BA-3786-4172-9689-7F0E9539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7753-BE07-473A-8C86-8B56922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D567-8BF7-4A53-B811-4702A146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79BA-1538-4993-8EDA-44BC7CE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C05A-092F-4FED-8FFA-6EC162A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8A92-433B-4746-B187-910BE47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FA1C-470C-4CF6-A3A1-5812D886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95B-A3F2-4876-9D97-51890F1D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52DC-1D9F-40CE-B5E8-AB14AF1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8803-1670-44FF-986C-6BC2982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B121-4C4F-413A-8E19-B022B73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0C97-4D2C-4DD8-BB3A-26D0AEC6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A28B-9A04-4680-A096-D35DD2D9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D36E-ABB6-413A-B34D-0BEC8633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B6C3-4186-4C6D-8B8C-852C2FDD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9C52-3B13-4ADC-AA32-DF0D6F7D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E16E-5C7F-4AC6-8202-1FCD6422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BBBA-3D61-4175-AC49-921FF553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62F-6965-4D3D-BBA8-C93087B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89A6-9F8E-489C-823A-B7BE602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FB9F-A1D3-4397-8E99-9F0A1E5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9F21-DCA7-4D08-9B7D-C8B0F50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9850-F7FC-4EA8-8744-F0ED286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3AEB-A168-47A4-9501-072E1E25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8FAC-776D-4588-966F-B8805CB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E36A3-4AB4-4EF4-8F03-4400F27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B7C96-6554-460F-80FF-0BDD46CD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0436-D87B-4EDA-A920-8D35F01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624A-7FE8-4E13-8CBC-3DBD7960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F15-4B34-4DD5-ACA0-5C82241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3ABD-F349-443A-8D41-5B1FD9C2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CE1C-75EF-47FB-A071-625B883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887E-A2D1-43A8-9B04-525722C3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927F-14AF-4486-A7F4-B7F82C7C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919E-D90A-44D6-8760-9EFD97A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0A25-299D-4C4F-A666-4967665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14FE-C0AC-4B82-8A45-DCA3089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033F-B94B-4DB4-BE3A-6FB52A73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1C70-23CE-409C-B8A8-3B50FE6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11A6-77DB-44BE-B872-E8F571BF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201-51B5-4D16-AC93-669AFA3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390E-EF5B-451D-8FE1-387E9C3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694C0-F588-46EA-BADF-20647A43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D1A3-BD4A-4108-8E0A-102A10D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2EE2-C33A-42A2-B008-DEFEEF3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600F-5B03-4AB4-BD35-75D43AA5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21FA6-DF29-4C77-B901-0830807A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9E76-8E34-4881-8C23-DD9E415E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E681-6881-4CF2-B9F2-5547C3A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7A4FC-A45B-4C24-8E2B-F07FBB1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BB60-3EE7-49CE-9E7D-3C4FDEC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D5F-3CEA-42B7-BAF0-6D27A081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4F190-3A53-40C2-BA1D-04437F6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1EF11-CBDB-4F0B-AD0F-E087C566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9591-B2D8-4EBF-B22E-2E288230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A0A3-52C9-4988-B6D9-762443CD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F7DC-767B-40E6-A729-53A8A896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5C0C-610E-4F54-AB70-71127A35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C7041-450A-49A8-9F02-2AF7C6C3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6428F-DD01-4981-842E-0FA81EC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64FA4-843D-41C3-AF52-BE17518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02C9-AAF6-4DC8-8185-7690DEF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1DD-BC49-4CDB-BBD1-768F63F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B667E-A30C-4F24-A66A-D01A207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1C5B-9EBB-4F96-B9CD-7D454C5D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BCA77-C065-4709-94D0-AF92F64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0FDA-F97A-41F8-8B85-BB2B0524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4C0A-7B78-49B3-A8C5-4E2F94FF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48B-C7E3-4DB4-80FF-A8C5699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3EE-523E-464A-87AF-249D1928CA36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F000-DD8B-4B7A-9C26-F4692B4BCCA1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895D-FAFA-4AED-838A-6690D683D3F8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8B5-F372-4824-8961-C31391D6048F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CF8-BDB4-4872-8EF5-09EBCC03D538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259-DECD-43D6-B9CE-95B5DEDF9A47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D80-02E7-4454-A4D3-07D9E4615C13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26920" y="2276280"/>
            <a:ext cx="7453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CITOCROMOS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Sistemas de transporte de electron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MI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Reserva de oxígeno en músculo esquelético y cardíac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HEM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Transporte de Oxígeno a los tej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Importancia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Tiene lugar en células del SRE: Hígado, bazo y médula óse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Se transporta al hígado unida a haptoglob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La globina se degrada a aminoác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DEGRADACION DE HEMOGLO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7704000" y="4582080"/>
            <a:ext cx="135360" cy="71352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1844640"/>
            <a:ext cx="813600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DEL SRE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Hb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HEPATICA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 Conjugación d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INTESTINAL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Reducción de   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 y producción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de esterc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DEGRADACIO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356000" y="21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EN EL  SR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7272360" y="173052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7145280" y="254808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14920" y="1839960"/>
            <a:ext cx="216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glo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559400" y="2832120"/>
            <a:ext cx="1871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1"/>
          <p:cNvSpPr/>
          <p:nvPr/>
        </p:nvSpPr>
        <p:spPr>
          <a:xfrm>
            <a:off x="4356000" y="530064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3"/>
          <p:cNvSpPr/>
          <p:nvPr/>
        </p:nvSpPr>
        <p:spPr>
          <a:xfrm>
            <a:off x="5364000" y="5207040"/>
            <a:ext cx="151164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4"/>
          <p:cNvSpPr/>
          <p:nvPr/>
        </p:nvSpPr>
        <p:spPr>
          <a:xfrm>
            <a:off x="5651640" y="5823000"/>
            <a:ext cx="93636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5"/>
          <p:cNvSpPr/>
          <p:nvPr/>
        </p:nvSpPr>
        <p:spPr>
          <a:xfrm flipH="1" rot="15221400">
            <a:off x="4728240" y="5486040"/>
            <a:ext cx="652680" cy="754200"/>
          </a:xfrm>
          <a:custGeom>
            <a:avLst/>
            <a:gdLst>
              <a:gd name="textAreaLeft" fmla="*/ 76680 w 652680"/>
              <a:gd name="textAreaRight" fmla="*/ 460440 w 652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108" hR="21600" stAng="10800000" swAng="5400000"/>
                <a:lnTo>
                  <a:pt x="12698" y="0"/>
                </a:lnTo>
                <a:arcTo wR="5108" hR="21600" stAng="-5400000" swAng="2285833"/>
                <a:lnTo>
                  <a:pt x="21382" y="15363"/>
                </a:lnTo>
                <a:lnTo>
                  <a:pt x="14010" y="21600"/>
                </a:lnTo>
                <a:lnTo>
                  <a:pt x="6202" y="15363"/>
                </a:lnTo>
                <a:lnTo>
                  <a:pt x="9997" y="15363"/>
                </a:lnTo>
                <a:arcTo wR="5108" hR="21600" stAng="-3114167" swAng="-1403274"/>
                <a:lnTo>
                  <a:pt x="8903" y="7144"/>
                </a:lnTo>
                <a:arcTo wR="5108" hR="21600" stAng="-6282559" swAng="-4517441"/>
                <a:close/>
              </a:path>
              <a:path fill="darkenLess" w="21600" h="21600">
                <a:moveTo>
                  <a:pt x="0" y="21600"/>
                </a:moveTo>
                <a:arcTo wR="5108" hR="21600" stAng="10800000" swAng="5400000"/>
                <a:lnTo>
                  <a:pt x="5108" y="0"/>
                </a:lnTo>
                <a:arcTo wR="5108" hR="21600" stAng="-5400000" swAng="882559"/>
                <a:lnTo>
                  <a:pt x="8903" y="7144"/>
                </a:lnTo>
                <a:arcTo wR="5108" hR="21600" stAng="-6282559" swAng="-4517441"/>
                <a:close/>
              </a:path>
            </a:pathLst>
          </a:cu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7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2694240" cy="5675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9"/>
          <p:cNvSpPr/>
          <p:nvPr/>
        </p:nvSpPr>
        <p:spPr>
          <a:xfrm>
            <a:off x="-36360" y="2637000"/>
            <a:ext cx="20160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2987640" y="191628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 Flecha derecha"/>
          <p:cNvSpPr/>
          <p:nvPr/>
        </p:nvSpPr>
        <p:spPr>
          <a:xfrm>
            <a:off x="6877080" y="1913040"/>
            <a:ext cx="395280" cy="2379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3 Flecha abajo"/>
          <p:cNvSpPr/>
          <p:nvPr/>
        </p:nvSpPr>
        <p:spPr>
          <a:xfrm>
            <a:off x="7846920" y="2151000"/>
            <a:ext cx="185760" cy="397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4 Flecha izquierda"/>
          <p:cNvSpPr/>
          <p:nvPr/>
        </p:nvSpPr>
        <p:spPr>
          <a:xfrm>
            <a:off x="4067280" y="2070000"/>
            <a:ext cx="647640" cy="2793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6 Flecha curvada hacia arriba"/>
          <p:cNvSpPr/>
          <p:nvPr/>
        </p:nvSpPr>
        <p:spPr>
          <a:xfrm flipH="1" rot="2496600">
            <a:off x="3367800" y="2680560"/>
            <a:ext cx="1211400" cy="560880"/>
          </a:xfrm>
          <a:custGeom>
            <a:avLst/>
            <a:gdLst>
              <a:gd name="textAreaLeft" fmla="*/ 249840 w 1211400"/>
              <a:gd name="textAreaRight" fmla="*/ 890640 w 1211400"/>
              <a:gd name="textAreaTop" fmla="*/ 74880 h 560880"/>
              <a:gd name="textAreaBottom" fmla="*/ 486000 h 56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-3480135"/>
                <a:lnTo>
                  <a:pt x="21317" y="5400"/>
                </a:lnTo>
                <a:lnTo>
                  <a:pt x="19102" y="0"/>
                </a:lnTo>
                <a:lnTo>
                  <a:pt x="16320" y="5400"/>
                </a:lnTo>
                <a:lnTo>
                  <a:pt x="17569" y="5400"/>
                </a:lnTo>
                <a:arcTo wR="8926" hR="21600" stAng="1919865" swAng="3279522"/>
                <a:lnTo>
                  <a:pt x="10176" y="21387"/>
                </a:lnTo>
                <a:arcTo wR="8926" hR="21600" stAng="5600614" swAng="5199386"/>
                <a:close/>
              </a:path>
              <a:path fill="darkenLess"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200614"/>
                <a:lnTo>
                  <a:pt x="10176" y="21387"/>
                </a:lnTo>
                <a:arcTo wR="8926" hR="21600" stAng="5600614" swAng="5199386"/>
                <a:close/>
              </a:path>
            </a:pathLst>
          </a:cu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-11160" y="4365720"/>
            <a:ext cx="19908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421080" y="4797360"/>
            <a:ext cx="151128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419640" y="6272280"/>
            <a:ext cx="18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Elipse"/>
          <p:cNvSpPr/>
          <p:nvPr/>
        </p:nvSpPr>
        <p:spPr>
          <a:xfrm>
            <a:off x="1619280" y="2276640"/>
            <a:ext cx="28872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5 Elipse"/>
          <p:cNvSpPr/>
          <p:nvPr/>
        </p:nvSpPr>
        <p:spPr>
          <a:xfrm>
            <a:off x="1700280" y="4076640"/>
            <a:ext cx="28728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26 Elipse"/>
          <p:cNvSpPr/>
          <p:nvPr/>
        </p:nvSpPr>
        <p:spPr>
          <a:xfrm>
            <a:off x="2556000" y="2852640"/>
            <a:ext cx="287280" cy="4716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Reacción de Conjugación de Bilirru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211640" y="2421000"/>
            <a:ext cx="3384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ETAPA INTESTINA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18" descr="AR100037"/>
          <p:cNvPicPr/>
          <p:nvPr/>
        </p:nvPicPr>
        <p:blipFill>
          <a:blip r:embed="rId1"/>
          <a:stretch/>
        </p:blipFill>
        <p:spPr>
          <a:xfrm>
            <a:off x="676440" y="2679840"/>
            <a:ext cx="3822480" cy="344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2" descr="AR100037"/>
          <p:cNvPicPr/>
          <p:nvPr/>
        </p:nvPicPr>
        <p:blipFill>
          <a:blip r:embed="rId2"/>
          <a:stretch/>
        </p:blipFill>
        <p:spPr>
          <a:xfrm>
            <a:off x="5435640" y="479736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2987640" y="4788000"/>
            <a:ext cx="251928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sobilirrubin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6516720" y="4829040"/>
            <a:ext cx="2376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ercobilin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squema de Degradació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481" name="Freeform 13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485" name="Freeform 16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9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1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7"/>
          <p:cNvSpPr/>
          <p:nvPr/>
        </p:nvSpPr>
        <p:spPr>
          <a:xfrm>
            <a:off x="5105520" y="2852640"/>
            <a:ext cx="1655640" cy="432000"/>
          </a:xfrm>
          <a:custGeom>
            <a:avLst/>
            <a:gdLst>
              <a:gd name="textAreaLeft" fmla="*/ 952560 w 1655640"/>
              <a:gd name="textAreaRight" fmla="*/ 1397160 w 165564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conjugad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IN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unida a albúm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ndara"/>
              </a:rPr>
              <a:t>DETERMINACION DE BILIRRUBINA CON FINES DIAGNOSTICO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47640" y="2657520"/>
            <a:ext cx="3019680" cy="2419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097440" cy="2077920"/>
          </a:xfrm>
          <a:prstGeom prst="rect">
            <a:avLst/>
          </a:prstGeom>
          <a:ln w="0">
            <a:noFill/>
          </a:ln>
        </p:spPr>
      </p:pic>
      <p:sp>
        <p:nvSpPr>
          <p:cNvPr id="512" name="1 CuadroTexto"/>
          <p:cNvSpPr/>
          <p:nvPr/>
        </p:nvSpPr>
        <p:spPr>
          <a:xfrm>
            <a:off x="1547640" y="1052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HIPERBILIRRU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 Flecha curvada hacia abajo"/>
          <p:cNvSpPr/>
          <p:nvPr/>
        </p:nvSpPr>
        <p:spPr>
          <a:xfrm rot="2853000">
            <a:off x="5616000" y="1541520"/>
            <a:ext cx="1973520" cy="868320"/>
          </a:xfrm>
          <a:custGeom>
            <a:avLst/>
            <a:gdLst>
              <a:gd name="textAreaLeft" fmla="*/ 411840 w 1973520"/>
              <a:gd name="textAreaRight" fmla="*/ 1452960 w 1973520"/>
              <a:gd name="textAreaTop" fmla="*/ 116280 h 868320"/>
              <a:gd name="textAreaBottom" fmla="*/ 752040 h 868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8" hR="21600" stAng="10800000" swAng="5400000"/>
                <a:lnTo>
                  <a:pt x="11395" y="0"/>
                </a:lnTo>
                <a:arcTo wR="9018" hR="21600" stAng="-5400000" swAng="3495855"/>
                <a:lnTo>
                  <a:pt x="21314" y="16200"/>
                </a:lnTo>
                <a:lnTo>
                  <a:pt x="19224" y="21600"/>
                </a:lnTo>
                <a:lnTo>
                  <a:pt x="16561" y="16200"/>
                </a:lnTo>
                <a:lnTo>
                  <a:pt x="17749" y="16200"/>
                </a:lnTo>
                <a:arcTo wR="9018" hR="21600" stAng="-1904145" swAng="-3305231"/>
                <a:lnTo>
                  <a:pt x="10206" y="188"/>
                </a:lnTo>
                <a:arcTo wR="9018" hR="21600" stAng="-5590625" swAng="-5209375"/>
                <a:close/>
              </a:path>
              <a:path fill="darkenLess" w="21600" h="21600">
                <a:moveTo>
                  <a:pt x="0" y="21600"/>
                </a:moveTo>
                <a:arcTo wR="9018" hR="21600" stAng="10800000" swAng="5400000"/>
                <a:lnTo>
                  <a:pt x="9018" y="0"/>
                </a:lnTo>
                <a:arcTo wR="9018" hR="21600" stAng="-5400000" swAng="190625"/>
                <a:lnTo>
                  <a:pt x="10206" y="188"/>
                </a:lnTo>
                <a:arcTo wR="9018" hR="21600" stAng="-5590625" swAng="-5209375"/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520" name="Freeform 11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24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73e87"/>
                </a:solidFill>
                <a:uFillTx/>
                <a:latin typeface="Candara"/>
              </a:rPr>
              <a:t>LUGAR DE SÍNTESI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Híg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Médula óse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Reticulocito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BIOSINTESIS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5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60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12720" y="216000"/>
            <a:ext cx="8229600" cy="9363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3132000" y="3213000"/>
            <a:ext cx="1513080" cy="1440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2"/>
          <p:cNvSpPr/>
          <p:nvPr/>
        </p:nvSpPr>
        <p:spPr>
          <a:xfrm rot="20014200">
            <a:off x="3708360" y="2636640"/>
            <a:ext cx="576360" cy="649080"/>
          </a:xfrm>
          <a:custGeom>
            <a:avLst/>
            <a:gdLst>
              <a:gd name="textAreaLeft" fmla="*/ 0 w 576360"/>
              <a:gd name="textAreaRight" fmla="*/ 484560 w 576360"/>
              <a:gd name="textAreaTop" fmla="*/ 55224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6793" y="0"/>
                </a:moveTo>
                <a:lnTo>
                  <a:pt x="11985" y="7182"/>
                </a:lnTo>
                <a:lnTo>
                  <a:pt x="15436" y="7182"/>
                </a:lnTo>
                <a:lnTo>
                  <a:pt x="15436" y="18371"/>
                </a:lnTo>
                <a:lnTo>
                  <a:pt x="0" y="18371"/>
                </a:lnTo>
                <a:lnTo>
                  <a:pt x="0" y="21600"/>
                </a:lnTo>
                <a:lnTo>
                  <a:pt x="18149" y="21600"/>
                </a:lnTo>
                <a:lnTo>
                  <a:pt x="18149" y="7182"/>
                </a:lnTo>
                <a:lnTo>
                  <a:pt x="21600" y="7182"/>
                </a:lnTo>
                <a:lnTo>
                  <a:pt x="16793" y="0"/>
                </a:lnTo>
                <a:close/>
              </a:path>
            </a:pathLst>
          </a:cu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588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7"/>
          <p:cNvSpPr/>
          <p:nvPr/>
        </p:nvSpPr>
        <p:spPr>
          <a:xfrm>
            <a:off x="2195640" y="3213000"/>
            <a:ext cx="3732120" cy="1595520"/>
          </a:xfrm>
          <a:custGeom>
            <a:avLst/>
            <a:gdLst>
              <a:gd name="textAreaLeft" fmla="*/ 0 w 3732120"/>
              <a:gd name="textAreaRight" fmla="*/ 3732480 w 373212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9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600" name="Freeform 15"/>
            <p:cNvSpPr/>
            <p:nvPr/>
          </p:nvSpPr>
          <p:spPr>
            <a:xfrm>
              <a:off x="4500720" y="498636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6"/>
            <p:cNvSpPr/>
            <p:nvPr/>
          </p:nvSpPr>
          <p:spPr>
            <a:xfrm>
              <a:off x="4764240" y="499428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4"/>
          <p:cNvSpPr/>
          <p:nvPr/>
        </p:nvSpPr>
        <p:spPr>
          <a:xfrm rot="4645800">
            <a:off x="6338520" y="2454120"/>
            <a:ext cx="497160" cy="287280"/>
          </a:xfrm>
          <a:custGeom>
            <a:avLst/>
            <a:gdLst>
              <a:gd name="textAreaLeft" fmla="*/ 286200 w 497160"/>
              <a:gd name="textAreaRight" fmla="*/ 435600 w 497160"/>
              <a:gd name="textAreaTop" fmla="*/ 50400 h 287280"/>
              <a:gd name="textAreaBottom" fmla="*/ 11088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438" y="0"/>
                </a:lnTo>
                <a:lnTo>
                  <a:pt x="14438" y="3808"/>
                </a:lnTo>
                <a:lnTo>
                  <a:pt x="12427" y="3808"/>
                </a:lnTo>
                <a:cubicBezTo>
                  <a:pt x="5564" y="3808"/>
                  <a:pt x="0" y="7546"/>
                  <a:pt x="0" y="12158"/>
                </a:cubicBezTo>
                <a:lnTo>
                  <a:pt x="0" y="21600"/>
                </a:lnTo>
                <a:lnTo>
                  <a:pt x="4642" y="21600"/>
                </a:lnTo>
                <a:lnTo>
                  <a:pt x="4642" y="12158"/>
                </a:lnTo>
                <a:cubicBezTo>
                  <a:pt x="4642" y="10055"/>
                  <a:pt x="8127" y="8350"/>
                  <a:pt x="12427" y="8350"/>
                </a:cubicBezTo>
                <a:lnTo>
                  <a:pt x="14438" y="8350"/>
                </a:lnTo>
                <a:lnTo>
                  <a:pt x="1443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53964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9"/>
          <p:cNvSpPr/>
          <p:nvPr/>
        </p:nvSpPr>
        <p:spPr>
          <a:xfrm>
            <a:off x="4859280" y="4149720"/>
            <a:ext cx="863640" cy="792000"/>
          </a:xfrm>
          <a:custGeom>
            <a:avLst/>
            <a:gdLst>
              <a:gd name="textAreaLeft" fmla="*/ 126360 w 863640"/>
              <a:gd name="textAreaRight" fmla="*/ 737280 w 86364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4584d3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360" y="2204640"/>
            <a:ext cx="8229600" cy="394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osíntesis del ácido </a:t>
            </a:r>
            <a:r>
              <a:rPr b="0" lang="es-ES" sz="32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-Aminolevulínic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Formación de Porf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Conversión de Porfobilinógeno en Hem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En la biosíntesis del HEMO se consideran 3 etapas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BIOSINTESIS DE ALA             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 (Acido </a:t>
            </a:r>
            <a:r>
              <a:rPr b="0" lang="es-E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-Aminolevulínico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3" name="Object 23"/>
          <p:cNvGraphicFramePr/>
          <p:nvPr/>
        </p:nvGraphicFramePr>
        <p:xfrm>
          <a:off x="851040" y="2646360"/>
          <a:ext cx="35337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646360"/>
                    <a:ext cx="35337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5"/>
          <p:cNvGraphicFramePr/>
          <p:nvPr/>
        </p:nvGraphicFramePr>
        <p:xfrm>
          <a:off x="5784840" y="2695680"/>
          <a:ext cx="2819520" cy="27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2695680"/>
                    <a:ext cx="28195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12"/>
          <p:cNvSpPr/>
          <p:nvPr/>
        </p:nvSpPr>
        <p:spPr>
          <a:xfrm>
            <a:off x="811080" y="5589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987640" y="4219560"/>
            <a:ext cx="1325520" cy="8254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035080" y="558972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160800" y="3303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690480" y="4118040"/>
            <a:ext cx="115272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6012000" y="3392640"/>
            <a:ext cx="647640" cy="50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73e87"/>
                </a:solidFill>
                <a:latin typeface="Arial"/>
                <a:ea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0"/>
          <p:cNvSpPr/>
          <p:nvPr/>
        </p:nvSpPr>
        <p:spPr>
          <a:xfrm>
            <a:off x="3635280" y="16272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67520" y="4761000"/>
            <a:ext cx="1366920" cy="649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nzima  alostérica mitocondrial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ontrola la velocidad de síntesis de porfiri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inhibida por el hemo, Hemoglobina y Hemoproteí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activada por hormonas esteroides, eritropoyetina, etanol y barbituratos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73e87"/>
                </a:solidFill>
                <a:latin typeface="Candara"/>
              </a:rPr>
              <a:t>El hemo inhibe la transcripción de la enzi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ALA SINTA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BIOSINTESIS DE PORFOBILINOGEN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34920" y="1600200"/>
          <a:ext cx="36878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78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366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FORMACION DE PORFIR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72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373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381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384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SINTESIS DE PROTOFORFIRINA III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391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402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403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ethel</cp:lastModifiedBy>
  <dcterms:modified xsi:type="dcterms:W3CDTF">2015-06-12T14:46:21Z</dcterms:modified>
  <cp:revision>95</cp:revision>
  <dc:subject/>
  <dc:title>Diapositiva 1</dc:title>
</cp:coreProperties>
</file>